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2.jpeg" ContentType="image/jpeg"/>
  <Override PartName="/ppt/media/image13.png" ContentType="image/pn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6.jpeg" ContentType="image/jpeg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sldIdLst>
    <p:sldId id="256" r:id="rId24"/>
    <p:sldId id="257" r:id="rId25"/>
    <p:sldId id="258" r:id="rId26"/>
    <p:sldId id="259" r:id="rId27"/>
    <p:sldId id="260" r:id="rId28"/>
    <p:sldId id="261" r:id="rId29"/>
    <p:sldId id="262" r:id="rId30"/>
    <p:sldId id="263" r:id="rId31"/>
    <p:sldId id="264" r:id="rId32"/>
    <p:sldId id="265" r:id="rId33"/>
    <p:sldId id="266" r:id="rId34"/>
    <p:sldId id="267" r:id="rId35"/>
    <p:sldId id="268" r:id="rId36"/>
    <p:sldId id="269" r:id="rId37"/>
    <p:sldId id="270" r:id="rId38"/>
    <p:sldId id="271" r:id="rId39"/>
    <p:sldId id="272" r:id="rId40"/>
    <p:sldId id="273" r:id="rId41"/>
    <p:sldId id="274" r:id="rId42"/>
    <p:sldId id="275" r:id="rId43"/>
    <p:sldId id="276" r:id="rId44"/>
    <p:sldId id="277" r:id="rId45"/>
    <p:sldId id="278" r:id="rId46"/>
    <p:sldId id="279" r:id="rId47"/>
    <p:sldId id="280" r:id="rId48"/>
    <p:sldId id="281" r:id="rId49"/>
    <p:sldId id="282" r:id="rId50"/>
    <p:sldId id="283" r:id="rId51"/>
    <p:sldId id="284" r:id="rId52"/>
    <p:sldId id="285" r:id="rId53"/>
    <p:sldId id="286" r:id="rId54"/>
    <p:sldId id="287" r:id="rId55"/>
    <p:sldId id="288" r:id="rId56"/>
    <p:sldId id="289" r:id="rId57"/>
    <p:sldId id="290" r:id="rId58"/>
    <p:sldId id="291" r:id="rId59"/>
    <p:sldId id="292" r:id="rId60"/>
    <p:sldId id="293" r:id="rId61"/>
    <p:sldId id="294" r:id="rId62"/>
    <p:sldId id="295" r:id="rId63"/>
    <p:sldId id="29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" Target="slides/slide1.xml"/><Relationship Id="rId25" Type="http://schemas.openxmlformats.org/officeDocument/2006/relationships/slide" Target="slides/slide2.xml"/><Relationship Id="rId26" Type="http://schemas.openxmlformats.org/officeDocument/2006/relationships/slide" Target="slides/slide3.xml"/><Relationship Id="rId27" Type="http://schemas.openxmlformats.org/officeDocument/2006/relationships/slide" Target="slides/slide4.xml"/><Relationship Id="rId28" Type="http://schemas.openxmlformats.org/officeDocument/2006/relationships/slide" Target="slides/slide5.xml"/><Relationship Id="rId29" Type="http://schemas.openxmlformats.org/officeDocument/2006/relationships/slide" Target="slides/slide6.xml"/><Relationship Id="rId30" Type="http://schemas.openxmlformats.org/officeDocument/2006/relationships/slide" Target="slides/slide7.xml"/><Relationship Id="rId31" Type="http://schemas.openxmlformats.org/officeDocument/2006/relationships/slide" Target="slides/slide8.xml"/><Relationship Id="rId32" Type="http://schemas.openxmlformats.org/officeDocument/2006/relationships/slide" Target="slides/slide9.xml"/><Relationship Id="rId33" Type="http://schemas.openxmlformats.org/officeDocument/2006/relationships/slide" Target="slides/slide10.xml"/><Relationship Id="rId34" Type="http://schemas.openxmlformats.org/officeDocument/2006/relationships/slide" Target="slides/slide11.xml"/><Relationship Id="rId35" Type="http://schemas.openxmlformats.org/officeDocument/2006/relationships/slide" Target="slides/slide12.xml"/><Relationship Id="rId36" Type="http://schemas.openxmlformats.org/officeDocument/2006/relationships/slide" Target="slides/slide13.xml"/><Relationship Id="rId37" Type="http://schemas.openxmlformats.org/officeDocument/2006/relationships/slide" Target="slides/slide14.xml"/><Relationship Id="rId38" Type="http://schemas.openxmlformats.org/officeDocument/2006/relationships/slide" Target="slides/slide15.xml"/><Relationship Id="rId39" Type="http://schemas.openxmlformats.org/officeDocument/2006/relationships/slide" Target="slides/slide16.xml"/><Relationship Id="rId40" Type="http://schemas.openxmlformats.org/officeDocument/2006/relationships/slide" Target="slides/slide17.xml"/><Relationship Id="rId41" Type="http://schemas.openxmlformats.org/officeDocument/2006/relationships/slide" Target="slides/slide18.xml"/><Relationship Id="rId42" Type="http://schemas.openxmlformats.org/officeDocument/2006/relationships/slide" Target="slides/slide19.xml"/><Relationship Id="rId43" Type="http://schemas.openxmlformats.org/officeDocument/2006/relationships/slide" Target="slides/slide20.xml"/><Relationship Id="rId44" Type="http://schemas.openxmlformats.org/officeDocument/2006/relationships/slide" Target="slides/slide21.xml"/><Relationship Id="rId45" Type="http://schemas.openxmlformats.org/officeDocument/2006/relationships/slide" Target="slides/slide22.xml"/><Relationship Id="rId46" Type="http://schemas.openxmlformats.org/officeDocument/2006/relationships/slide" Target="slides/slide23.xml"/><Relationship Id="rId47" Type="http://schemas.openxmlformats.org/officeDocument/2006/relationships/slide" Target="slides/slide24.xml"/><Relationship Id="rId48" Type="http://schemas.openxmlformats.org/officeDocument/2006/relationships/slide" Target="slides/slide25.xml"/><Relationship Id="rId49" Type="http://schemas.openxmlformats.org/officeDocument/2006/relationships/slide" Target="slides/slide26.xml"/><Relationship Id="rId50" Type="http://schemas.openxmlformats.org/officeDocument/2006/relationships/slide" Target="slides/slide27.xml"/><Relationship Id="rId51" Type="http://schemas.openxmlformats.org/officeDocument/2006/relationships/slide" Target="slides/slide28.xml"/><Relationship Id="rId52" Type="http://schemas.openxmlformats.org/officeDocument/2006/relationships/slide" Target="slides/slide29.xml"/><Relationship Id="rId53" Type="http://schemas.openxmlformats.org/officeDocument/2006/relationships/slide" Target="slides/slide30.xml"/><Relationship Id="rId54" Type="http://schemas.openxmlformats.org/officeDocument/2006/relationships/slide" Target="slides/slide31.xml"/><Relationship Id="rId55" Type="http://schemas.openxmlformats.org/officeDocument/2006/relationships/slide" Target="slides/slide32.xml"/><Relationship Id="rId56" Type="http://schemas.openxmlformats.org/officeDocument/2006/relationships/slide" Target="slides/slide33.xml"/><Relationship Id="rId57" Type="http://schemas.openxmlformats.org/officeDocument/2006/relationships/slide" Target="slides/slide34.xml"/><Relationship Id="rId58" Type="http://schemas.openxmlformats.org/officeDocument/2006/relationships/slide" Target="slides/slide35.xml"/><Relationship Id="rId59" Type="http://schemas.openxmlformats.org/officeDocument/2006/relationships/slide" Target="slides/slide36.xml"/><Relationship Id="rId60" Type="http://schemas.openxmlformats.org/officeDocument/2006/relationships/slide" Target="slides/slide37.xml"/><Relationship Id="rId61" Type="http://schemas.openxmlformats.org/officeDocument/2006/relationships/slide" Target="slides/slide38.xml"/><Relationship Id="rId62" Type="http://schemas.openxmlformats.org/officeDocument/2006/relationships/slide" Target="slides/slide39.xml"/><Relationship Id="rId63" Type="http://schemas.openxmlformats.org/officeDocument/2006/relationships/slide" Target="slides/slide40.xml"/><Relationship Id="rId64" Type="http://schemas.openxmlformats.org/officeDocument/2006/relationships/slide" Target="slides/slide4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C78E-436A-4116-A262-CF5E63172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7486-5F09-4AD4-AD78-7CB25A9CD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28432B-20EE-4014-BA2D-2CAA9BF04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3FEF78-8BE1-4FE9-BEB4-FD0E1118E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60FBBB-2066-4196-B792-7D29EA9CF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ECEEB9-9D55-4277-B8DF-1F50F9202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64856E-C7E7-4094-8903-62FC12C2B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C182EB-51B8-42CE-B518-CC48B11D2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4E74DF-5912-4165-AF38-9FAE93CBF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134F55-7DC6-4AD1-9C4E-C4F27B789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01A755-85F2-495A-B144-640728179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56D873-1DE1-4AD0-9F15-E58459059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E359-A881-4A4F-A6B7-271D55FB9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53C6D0-75EB-46C9-92DC-2B07F5D47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068F8F-BFC8-4A46-A5F2-14C2CBCC1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260CE4-C56B-4114-9CD7-4967629E5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ACA309-72F3-4D99-9787-4331D64F5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E94117-C2DD-4006-BB7D-FA4AF69DE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DCF1D9-88EC-49A9-A8DE-C6E0D40BD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4F27DA-4990-4DF4-87AB-F9CEB7AD7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220146-8A36-4409-9822-5B3C5709B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B67A48-20B3-4701-94DC-AE0542AB7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C98E98-9BC4-4F1F-AD01-148F12BA4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6AB0-0131-4428-BD0B-3ED1652D1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BEB1D4-6F1C-430B-BFFB-B08299E61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B3B2C3-93EA-4C74-BB3E-1235BC149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22EBAA-4CD9-4A83-895A-58145AFAA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AFFF7D-EE83-4137-8E0A-019D2FA51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8BB63B-AA75-4BC3-827B-14105F853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5BFB86-9019-493A-8EB1-D7FD1E42E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5B2B94-4248-4B6E-85E7-C0E557A1B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C028CE-3B69-4AA4-AC32-DDD27C37C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4184AA-625B-4C19-9348-7663D7EC4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D68AAF-8B08-4090-8360-B8BDBA903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0C0BC-6876-48F8-B8D1-C5022295A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98799C-91CF-4B8D-B09D-8A8A2EA74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C97520-C86B-4AEE-98F5-9C8D14217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68A017-7DAE-48C0-81DB-5B15134BF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A95F0A-ECA4-4BFE-AE0F-4CC6BCC41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3873E3-C388-401E-A396-0F3A4D354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F20D92-A418-4D6A-8B8C-0F0458A5D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2567CB-E99C-40C6-9081-60EE2C1C9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B97F1E-808F-46D0-9DC7-26153B785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76B7EE-524A-4C85-9709-8D6B09359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ADC579-35AB-409C-97EB-1158EF786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80199-9490-477D-99FD-9839572E2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5CACD6-24C6-400B-BD15-382A92E62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0323F7-6507-4081-812E-553170461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DE60BF-15D1-4A97-95AD-FCA213028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7CA057-9E0B-463D-A782-445A39343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9C5853-E0D6-4583-8952-3A00E583C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30E209-B03D-453C-9963-3F8A680A0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3E9084-BFDC-4DF0-8A00-3CC0D813B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F6AD93-E713-45EC-A7E2-11BB3E728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BF2E06-ECE8-408F-910B-F9C83EDF2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D0E37C-BB57-4F67-9BA3-4F9B377B2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83989-CA41-49AC-A894-24097CC0A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0917B4-C6E2-4089-BCA7-8387D1CFB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DCF7FE-F517-4AD6-9FFF-FECD760A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A472CA-AC8B-409C-808A-F444A28A1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926288-ECA8-486D-A1D9-354F589DA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7449CD-EC1B-4449-BD9F-3F5680A99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C857A9-513E-4F50-9CED-B931A72C9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BFD29C-8DDC-43BB-8374-FF8A11CC1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E13FF3-4A31-46FA-81F8-87F7E9D36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71936A-D386-4F70-AC77-89152619A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EADA58-5A20-4B47-9265-9D183BC71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D56FF-6216-4606-9638-47271BCCA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E83C91-AC59-4BF6-9460-59762D984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F34B67-27AD-4949-B0C6-4CED1B542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654CF0-CF81-44F7-9BBC-61F4F0366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A6283D-4105-4D3C-8D56-E9A5C7312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9B1FC4-3559-46DA-AAAB-2F1971998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3271C5-9ADD-4E35-83A7-193F644AC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88ECFE-A017-41B8-B8A1-20568DFF0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709955-5DB5-4DC9-AA8E-18C080F70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C6A6D2-D5EC-4625-BEB7-8D29D8341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AC0AD4-62B8-4B05-911E-A744D8517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04AD0-6E33-4E8D-90C0-237535B30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B40069-881E-438F-B53D-2D0206930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FE9608-7010-4B34-8737-5554D8F98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3AC1A7-5B18-4D51-B2A2-ADE14E6C8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CA2B8E-2736-4171-A59E-EA4963A3E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A69A59-DEB4-4D28-8217-E460E8F27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09B0DF-6A32-42C9-B9DB-9B6940380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34595E-A2F9-4616-8EB1-3D985F713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BF78FB-C40B-4706-B56E-15C44F567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5B8631-4493-4E69-BEC3-F1CDCF7FC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53B40A-93D3-4E64-8D77-576CAC0E1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10C07-546D-4864-A91E-529E0C939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BC0555-70AA-452F-9C58-E637C6AB7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0FE090-D62E-4526-89C7-2C3687614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DB3203-6EDF-460B-8552-A2E271ACB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0322E8-36A4-4D23-9A80-A021C0E09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E259F8-625B-4EBD-87C4-14663C728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AF35DA-5F5E-4314-873E-E5F15E37D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B37816-D0DE-427E-8E41-A85BAAE8F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A9AF36-F08E-4186-B842-C9F923EE0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20D011-4E3D-4142-8A37-64EF13445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55BEF7-1BB1-450C-9C03-EB138DABA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B224B-3C52-4C57-B6D9-4334D3194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CE365D-BE97-495A-A323-E24FC365C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B52B2B-7774-4D09-B1F2-48208582A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27674F-98BD-4E87-BB36-A04B50556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7AB1A9-2564-401A-927B-CFA8B2AD6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DCBEF1-9CE3-460D-BB91-81A8928A8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E473C4-AC08-41A3-B8DF-04F9C867D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D4F657-8AE6-4906-A90A-0666188EF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CF8D29-DEDF-4194-8B9C-9AE0202B2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626583-00BA-448F-9FE6-37BCB2C3B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AC0AC4-C388-4056-9D19-645359788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F488-B2F0-428F-ADD4-AE72E45CB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34DA1-C956-4C2C-8C8C-0FEED0390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09888B-3C91-4449-9CC8-A799F97F1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6C8CF4-6146-4E1C-AA18-0D2FF0573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4E7DDC-A4CF-4DBB-BF56-4E2AD53D3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E282EC-01D2-473B-9F05-432BB5ED3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5DF8C1-D3CC-4BAA-88C5-F6CCB8786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17C11B-D6AC-4E59-916E-5382FF76A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3FA638-288F-45EA-B80A-8670F7C10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56D573-B13D-4653-91C1-F288CAEAE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87AE0E-9F2F-42DE-8F5C-5FD86EE7E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C4EC4B-A16D-4546-92C7-532B2DEEC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2832B-7859-4045-9938-57DA9E088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8F3489-C269-4564-920D-37A83F232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5A4B72-C001-44F5-B515-548EDE8FF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FC4766-AC20-4015-AD78-214169F98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D57EC5-C82F-4E32-962A-41DDD1785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5DF95F-3866-4B7E-AD17-73520E2E8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4775D6-49BF-494F-A70A-A679CA86B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C3046C-96ED-4265-ABF9-C60C0C748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ABFD6B-DD5F-4946-AB3F-78F582B8C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1572920-C309-4E78-9A2A-F4EB7A7A3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EBBB9D-9520-4588-8529-DEFDF545C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A48E9-472C-4154-ADDA-78B9F5B5B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0DB45F-7F50-480F-8889-36E2FC007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E43451-F2C3-4553-876E-FD419AA85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82A61B-9516-4FC6-AFF0-A1142C93A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8063D27-F507-49CB-869C-9E17459DB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7AEA71-8685-44C2-965B-4649C556A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C08772-E851-4DB5-BA5A-52FD41657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1A8F97-6B2A-47D3-A59C-F068370AD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C869E2-EEA0-4968-B2CE-598B87730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8DA9D7-8539-43D7-BFE0-FF1B2BCBA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7220B3-5865-434A-9162-933D499E6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AF943-00CA-4353-A272-7116DA349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5A7C1D-D8B9-4E31-9752-5D7F64172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2F8436-F669-4A61-A49D-831E67DCD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99C054-C82D-4A20-A7D3-8AE53DBB6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749C3D-7DD8-41F2-A47D-34E034514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316DB4-B067-442D-A5DF-028C6DCBD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EA3A1D-5A8E-4FEE-AB35-06CA472AC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2D61C3-A88A-46E1-A6EB-CA508A3F2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4D0C8A-ECE3-4304-9E52-814B78519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DE51A0-8468-46BE-8F21-92D578F74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C46FCC-6854-452E-9E7F-0CC7227E5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65610-3203-4064-89CD-3D7D8E585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07005A-F847-49AE-BC07-3EB78C7B3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6DE664A-122D-43DE-BCA0-1F8F2FA74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1AB64B-00E5-4A7F-B289-8AD819C3B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27F7E5-115E-449B-80FC-25962FD4A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5180BD3-E1D0-49E8-B55E-775D941A4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54FF3A4-DD12-4193-A5E3-8B5102850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620E024-F170-4F9F-B825-93ADD7527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9EC879-1C31-4860-8AE6-A51BF11EF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C54D8BE-E52C-4342-AEA6-345AA4128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CDB48D-7D20-4E20-AE50-8B5B1E07A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6EB52-88DE-4C47-9EAD-CFF9FD4A6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C2C6374-4C82-4D0E-BBF9-823EA41AF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35AF6C5-6B72-4FF7-A032-FD245A6FA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2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289438D-373D-404B-87CF-E8DC09190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912993E-F70E-401B-B113-8831D0996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F18AA06-455C-4BBA-A57A-186BDD1E5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9FFE348-36FF-4273-BE3D-DC715F776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FD36543-43B2-4171-9E02-942E18ED7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6380E29-96FB-40F9-8871-3E378602E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F675B36-A347-4C3D-BB8B-5027EA73B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C3D3381-5FFD-425E-8B3E-0A7A36871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D755F-FD06-48EC-BA5D-EE05AED4D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DC340E1-B183-4EB5-B298-ECCDD80EF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9DC5868-E334-4250-9866-AE6E0C17A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B925279-A02B-45A5-A659-DCE3EFF29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9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C30195D-3706-41FC-A265-0E5AC71FA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4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5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6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6205B16-FB42-4038-B8C2-68F43DAF4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DCA60-DF2F-41A9-AADE-94C449876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28A6D-AD2D-4A53-AA8C-C58DF0CEA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22611-648D-46BF-9999-9D3BC7CE0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D578-1B59-4F77-875F-F7F79049E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10882-2943-4FE3-A8CD-2F2714B2F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D78DA-A3E5-4052-9A31-F633A454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9C32C-EBD7-45CE-AEA6-C5D0C12E7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932FD-E9CB-4DB2-9DA1-5B971A69E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69155-2AD4-45D7-860A-6E9321D3F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2C437-50AE-4197-98C9-9F6086959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4DDE8-7754-42F0-83F7-A183314B2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B3CB4-CFF5-41ED-8F38-B38BD0C2F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A69145-3810-4BD5-8D52-F9694E72C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283EE-1709-4175-903F-467583A5C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3F3A-FFFF-4806-9679-E04D3E5F6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B3FBB-1D74-457D-8015-7C99BC7AD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2A8EA-8174-4806-8F50-3C90D82A1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DFEA5-8F5B-4A2D-A7F7-DCFA37375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4BE1F5-ABB1-4F0B-B780-356B7C0CC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5B08D-7EA6-4A32-B25B-3F0D90713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97E43-42D4-46F1-A4F7-8DF5AAA98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8733E-2779-42F7-B29B-55776B22F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E023E3-F021-47FA-A7CF-6BD674296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8C1DA-115D-4BF8-9D75-6ABB7C699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79C54C-6E80-42B6-A8A1-318AD85CA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2690-AD64-4D93-9AA2-3A53E9EC0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7DBDD4-3D06-4F9F-B7DD-21AC88EA7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15804B-5712-49CA-87AB-40E56ADA3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08BA11-B230-4CDC-8DB9-3A855CF99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B4CE46-9525-456C-A482-1AE36A9B6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5FC122-9BE6-40E5-B8E4-031BF8635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C80355-52F3-451B-AE8E-04394DEE2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8060B7-0BCE-4DFA-8DB6-CE6579FBF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C5C4F6-0654-4404-A666-E181ECDAE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DFC46D-9FF2-4D06-BA54-9E36D3651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AAE24-2D2B-4372-AA3A-A7E955904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22DC-699E-4A3C-A4EC-852DB1D77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5DA181-F120-4FFA-846C-7A99E72F5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BEC4E3-C950-4DF9-A4DE-193AA2B7A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AF6250-7B8A-4A4F-9115-78D7A32D7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26C836-3E64-44A0-8AED-F2E6415A5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7D5DD4-6113-4EC9-8945-A2167A0B2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BFCA28-AAAF-4571-876C-08CD96101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BD0A07-6B5F-46CA-B018-E21129889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11B5A8-4FB1-4F8E-86A7-C12505675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F21D86-0011-4D74-AF42-5D5482931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8E5FDA-FC26-4C46-8439-FE7D74C8A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33A9-712C-488B-8F82-188DA0838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9D36DE-C26D-44E1-BF09-611C09396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F53FB7-E639-4B62-89B7-DF4E6DEF9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095F72-8619-4C7F-81E1-6338CBEFB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5551E7-33E5-4B4A-A444-23D741670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714BFE-2F80-4783-82AD-D4F538B58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7C2C93-E5F6-4576-BFA0-6EEF839C0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015646-6255-4E3A-9318-DBDC91071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E6BE29-999D-40E0-8CC0-009990378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BE05B2-9F94-45D8-AEC3-44F9EECA3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24F933-0973-4BDD-911F-2321AA9F3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1FEB-627C-45BF-88EB-F308F4925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E697B1-DF6F-47FE-916F-0D12957BC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6140F2-396A-4D85-B695-D41F4628B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FB86A1-1167-4D53-A922-DC18F00BF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2A8872-F9EE-4590-8E7C-E507CC354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9C8240-392B-4FEE-BF69-4B99258DF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52360A-8DC0-4897-B22A-5629FF744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61AE5B-C486-4E7E-A3D3-3C026FFFC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221DE6-9B15-4799-B3B6-6478AC996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C86CDE-B7AA-4171-B524-FC60A03B7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27305D-FE0E-4536-8533-D1E2E9A7E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FB27-7C45-4795-A176-2A99ED0F4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1E9C37-164C-4DC8-A280-CDEA9B09B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894D9D-4576-4DAE-BF80-189651492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E8FCE4-D33B-4323-8637-6602C0EE5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2A7DF8-4D8A-4D1F-9F02-0709EC30F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E4E2A6-FFF2-46E0-83BB-2DE25395E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6B13DF-5062-4492-95CF-55FEFD4FD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88620E-9D72-49A0-99BF-586C9A11B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57FBBA-00EE-4B67-ABAE-19C1D8D73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0FEC37-A7E6-435E-96E8-9D1B74634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796D19-4427-4FFF-8E7E-AFADF0997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3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BDBC4-944B-4375-8195-0C2EAA18D65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8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ftr" idx="29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sldNum" idx="30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F96E8-3994-4CAE-A09E-5169F860D05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41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pic>
          <p:nvPicPr>
            <p:cNvPr id="41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FE53E-D500-4A89-8BC8-30E35CB5D02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5" name="PlaceHolder 1"/>
          <p:cNvSpPr>
            <a:spLocks noGrp="1"/>
          </p:cNvSpPr>
          <p:nvPr>
            <p:ph type="dt" idx="3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sldNum" idx="3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03820-A2A1-45A9-92A4-868B5826A07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3"/>
          <a:stretch/>
        </p:blipFill>
        <p:spPr>
          <a:xfrm>
            <a:off x="117360" y="115920"/>
            <a:ext cx="8910720" cy="66261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67083-A190-4417-A7ED-018C2FC226F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body"/>
          </p:nvPr>
        </p:nvSpPr>
        <p:spPr>
          <a:xfrm>
            <a:off x="3808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820800" y="847800"/>
            <a:ext cx="7505640" cy="5162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3"/>
          <a:stretch/>
        </p:blipFill>
        <p:spPr>
          <a:xfrm>
            <a:off x="762120" y="4038480"/>
            <a:ext cx="1374480" cy="2008440"/>
          </a:xfrm>
          <a:prstGeom prst="rect">
            <a:avLst/>
          </a:prstGeom>
          <a:ln w="0">
            <a:noFill/>
          </a:ln>
        </p:spPr>
      </p:pic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D67A1-245C-445B-9909-7DE4D3E2C45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9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580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581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582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grpSp>
              <p:nvGrpSpPr>
                <p:cNvPr id="583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84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87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588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589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590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80808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591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592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93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94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95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96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97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98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99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0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1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2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3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4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5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6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7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8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9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10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11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12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13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14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15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16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17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18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19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0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1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2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3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4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5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6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7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628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629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8080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30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8080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31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8080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32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8080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33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8080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34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8080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35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8080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36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8080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37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8080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38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8080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39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8080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40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80808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41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2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3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4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5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6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7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8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9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0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1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2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3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4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5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6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7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8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9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0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1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2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3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4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5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6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7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8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9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0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1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2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3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4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5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6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677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678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grpSp>
              <p:nvGrpSpPr>
                <p:cNvPr id="680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681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2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3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4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5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6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7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8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9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90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691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grpSp>
            <p:nvGrpSpPr>
              <p:cNvPr id="697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698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03" name="PlaceHolder 1"/>
          <p:cNvSpPr>
            <a:spLocks noGrp="1"/>
          </p:cNvSpPr>
          <p:nvPr>
            <p:ph type="dt" idx="4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 type="sldNum" idx="4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49A80-A00D-4B33-842D-EF983FB9BE1B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745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746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747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grpSp>
              <p:nvGrpSpPr>
                <p:cNvPr id="748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749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0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1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52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753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754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755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80808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756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757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8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9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0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1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2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3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4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5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6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7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8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9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0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1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2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3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4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5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6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7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8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9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0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1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2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3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4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5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6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7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8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9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0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1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2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793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794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8080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95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8080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96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8080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97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8080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98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8080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99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8080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00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8080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01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8080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02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8080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03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8080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04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8080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05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80808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806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7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8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9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0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1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2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3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4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5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6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7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8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9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0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1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2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3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4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5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6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7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8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9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0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1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2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3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4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5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6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7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8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9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0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1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842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843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grpSp>
              <p:nvGrpSpPr>
                <p:cNvPr id="845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846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7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8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9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0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1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2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3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4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855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856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grpSp>
            <p:nvGrpSpPr>
              <p:cNvPr id="862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863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E0774-E273-46E1-8011-1F3BB49FBFBB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909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910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grpSp>
          <p:nvGrpSpPr>
            <p:cNvPr id="911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912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</p:grpSp>
        <p:grpSp>
          <p:nvGrpSpPr>
            <p:cNvPr id="923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924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</p:grpSp>
        <p:grpSp>
          <p:nvGrpSpPr>
            <p:cNvPr id="942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943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</p:grpSp>
        <p:grpSp>
          <p:nvGrpSpPr>
            <p:cNvPr id="960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961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grpSp>
            <p:nvGrpSpPr>
              <p:cNvPr id="968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969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40FA3-0781-4BBC-B55E-4F00ABC4702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4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15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grpSp>
          <p:nvGrpSpPr>
            <p:cNvPr id="1016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17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</p:grpSp>
        <p:grpSp>
          <p:nvGrpSpPr>
            <p:cNvPr id="1028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029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</p:grpSp>
        <p:grpSp>
          <p:nvGrpSpPr>
            <p:cNvPr id="1047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048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</p:grpSp>
        <p:grpSp>
          <p:nvGrpSpPr>
            <p:cNvPr id="1065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066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grpSp>
            <p:nvGrpSpPr>
              <p:cNvPr id="1073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074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077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91FAF-1CB9-45B5-8FF8-EEE6E41B569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8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119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112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1A6D2-9452-4A77-A770-63BF52F5919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267F0-1C5E-463A-B8E3-4365B14D672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5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1166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1172" name="PlaceHolder 1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ABC28-9D27-417F-8BB4-DF38DA1F4B3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 type="dt" idx="6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CAE43-B094-4A1C-A84B-8574EFC6D04C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 type="dt" idx="6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 type="ftr" idx="6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 type="sldNum" idx="6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C1375-438D-448F-A0D3-472B2D6C143F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8158D-6AAD-4940-B25E-A9F2EFCF9F2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9A703-CA39-4C2E-BA51-83191A114FF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A2939-5E73-41EF-B54D-C202E0F1063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560" y="2285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0EE4C-E923-436A-B298-EF3EA330B00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66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ff"/>
              </a:buClr>
              <a:buSzPct val="80000"/>
              <a:buFont typeface="Wingdings" charset="2"/>
              <a:buChar char="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66"/>
              </a:buClr>
              <a:buSzPct val="85000"/>
              <a:buFont typeface="Wingdings" charset="2"/>
              <a:buChar char="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3013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05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7A12E-2CC4-42BF-B9E5-5A49EE49510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dt" idx="22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4C357-93E7-4B57-B386-36723C3A28F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ffff"/>
              </a:buClr>
              <a:buSzPct val="70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ffff"/>
              </a:buClr>
              <a:buSzPct val="7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F3B6A-E72E-41F6-8064-3A4A76B9B4D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9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image.baidu.com/i?ct=503316480&amp;z=0&amp;tn=baiduimagedetail&amp;word=%B1&#566;%FB%A1%A4%B8&#500;%C4&amp;in=17878&amp;cl=2&amp;cm=1&amp;sc=0&amp;lm=-1&amp;pn=53&amp;rn=1&amp;di=717930532&amp;ln=2000" TargetMode="External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9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image.baidu.com/i?ct=503316480&amp;z=0&amp;tn=baiduimagedetail&amp;word=%B1&#566;%FB%A1%A4%B8&#500;%C4&amp;in=5821&amp;cl=2&amp;cm=1&amp;sc=0&amp;lm=-1&amp;pn=46&amp;rn=1&amp;di=1979244092&amp;ln=2000" TargetMode="External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9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image.baidu.com/i?ct=503316480&amp;z=0&amp;tn=baiduimagedetail&amp;word=%B1&#566;%FB%B8&#500;%C4&amp;in=3189&amp;cl=2&amp;cm=1&amp;sc=0&amp;lm=-1&amp;pn=146&amp;rn=1&amp;di=1578750761&amp;ln=2000" TargetMode="External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9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image.baidu.com/i?ct=503316480&amp;z=0&amp;tn=baiduimagedetail&amp;word=%B1&#566;%FB%B8&#500;%C4&amp;in=18114&amp;cl=2&amp;cm=1&amp;sc=0&amp;lm=-1&amp;pn=149&amp;rn=1&amp;di=1601096896&amp;ln=2000" TargetMode="External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9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image.baidu.com/i?ct=503316480&amp;z=0&amp;tn=baiduimagedetail&amp;word=%B1&#566;%FB%B8&#500;%C4&amp;in=12780&amp;cl=2&amp;cm=1&amp;sc=0&amp;lm=-1&amp;pn=157&amp;rn=1&amp;di=1025068241&amp;ln=2000" TargetMode="External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9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9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9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9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9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9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9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9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9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9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9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9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4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4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1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1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4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9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1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9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9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image.baidu.com/i?ct=503316480&amp;z=0&amp;tn=baiduimagedetail&amp;word=%B1&#566;%FB%A1%A4%B8&#500;%C4&amp;in=32365&amp;cl=2&amp;cm=1&amp;sc=0&amp;lm=-1&amp;pn=69&amp;rn=1&amp;di=2777864844&amp;ln=2000" TargetMode="External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685800" y="184428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9ac"/>
                </a:solidFill>
                <a:latin typeface="幼圆"/>
                <a:ea typeface="幼圆"/>
              </a:rPr>
              <a:t>播种习惯 </a:t>
            </a:r>
            <a:r>
              <a:rPr b="1" lang="zh-CN" sz="6000" spc="-1" strike="noStrike">
                <a:solidFill>
                  <a:srgbClr val="0039ac"/>
                </a:solidFill>
                <a:latin typeface="Arial"/>
              </a:rPr>
              <a:t>·  </a:t>
            </a:r>
            <a:r>
              <a:rPr b="1" lang="zh-CN" sz="6000" spc="-1" strike="noStrike">
                <a:solidFill>
                  <a:srgbClr val="0039ac"/>
                </a:solidFill>
                <a:latin typeface="幼圆"/>
                <a:ea typeface="幼圆"/>
              </a:rPr>
              <a:t>收获成功</a:t>
            </a:r>
            <a:endParaRPr b="0" lang="en-US" sz="60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高一 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8 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班   第五周班会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80808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80808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79.9"/>
                                  </p:iterate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9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323640" y="1267920"/>
            <a:ext cx="856908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0033cc"/>
                </a:solidFill>
                <a:latin typeface="Arial"/>
              </a:rPr>
              <a:t>忠告一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 ： </a:t>
            </a:r>
            <a:br>
              <a:rPr sz="4400"/>
            </a:br>
            <a:r>
              <a:rPr b="0" lang="zh-CN" sz="4400" spc="-1" strike="noStrike">
                <a:solidFill>
                  <a:srgbClr val="0033cc"/>
                </a:solidFill>
                <a:latin typeface="Arial"/>
              </a:rPr>
              <a:t>   生活是不公平的，你要去适应。 </a:t>
            </a:r>
            <a:br>
              <a:rPr sz="4400"/>
            </a:b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/>
          </p:nvPr>
        </p:nvSpPr>
        <p:spPr>
          <a:xfrm>
            <a:off x="301680" y="1483920"/>
            <a:ext cx="854064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             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忠告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这个世界不会在意你的自尊，而是要求你在自我感觉良好之前先有所成就。 </a:t>
            </a:r>
            <a:br>
              <a:rPr sz="3200"/>
            </a:b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2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148360" y="3357720"/>
            <a:ext cx="28796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忠告三</a:t>
            </a:r>
            <a:br>
              <a:rPr sz="4000"/>
            </a:b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刚走出学校不可能一个月挣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万美元，更不会成为公司的副总裁，拥有一部汽车，直到你挣到手的那一天。 </a:t>
            </a:r>
            <a:br>
              <a:rPr sz="3200"/>
            </a:b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2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227640" y="2781360"/>
            <a:ext cx="256392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忠告四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如果你认为学校里的老师太严厉，等你有了老板时再回头想一想。 </a:t>
            </a:r>
            <a:br>
              <a:rPr sz="3200"/>
            </a:b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2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64000" y="3357720"/>
            <a:ext cx="3183120" cy="23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忠告五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卖汉堡不会有损你的尊严。你的祖父母对卖汉堡有不同理解，将它称为「机遇」。 </a:t>
            </a:r>
            <a:br>
              <a:rPr sz="3200"/>
            </a:b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3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940360" y="3284640"/>
            <a:ext cx="2544840" cy="28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忠告六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如果你陷入困境，不是你父母的过错，不要将自己应承担的责任转嫁他人，而要从中吸取教训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3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64280" y="4508640"/>
            <a:ext cx="2979720" cy="19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忠告七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在你出生之前，你的父母并不像现在这样乏味。是因为这些年来一直在为你洗衣服、付账单，他们才变成今天这个样子。所以，在对父母喋喋不休之前，先去打扫自己的屋子吧。 </a:t>
            </a:r>
            <a:br>
              <a:rPr sz="3200"/>
            </a:b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38" name="" descr=""/>
          <p:cNvPicPr/>
          <p:nvPr/>
        </p:nvPicPr>
        <p:blipFill>
          <a:blip r:embed="rId2"/>
          <a:stretch/>
        </p:blipFill>
        <p:spPr>
          <a:xfrm>
            <a:off x="5508720" y="4149720"/>
            <a:ext cx="310968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忠告八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你的学校也许已经没有优等生和劣等生之分，但生活却并不如此。有些学校已经没有「不及格」的概念，学校会不断给你机会让你进步，但现实生活完全不是这样。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41" name="" descr=""/>
          <p:cNvPicPr/>
          <p:nvPr/>
        </p:nvPicPr>
        <p:blipFill>
          <a:blip r:embed="rId2"/>
          <a:stretch/>
        </p:blipFill>
        <p:spPr>
          <a:xfrm>
            <a:off x="5796000" y="4149720"/>
            <a:ext cx="2533680" cy="20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忠告九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走出学校后的生活不像在学校有学期之分，也没有暑假。没有几位老板乐于帮你发现自我，你必须靠自己去完成。 </a:t>
            </a:r>
            <a:br>
              <a:rPr sz="3200"/>
            </a:b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44" name="" descr=""/>
          <p:cNvPicPr/>
          <p:nvPr/>
        </p:nvPicPr>
        <p:blipFill>
          <a:blip r:embed="rId2"/>
          <a:stretch/>
        </p:blipFill>
        <p:spPr>
          <a:xfrm>
            <a:off x="7020000" y="4005360"/>
            <a:ext cx="186192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忠告十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许多电视中的场景绝不是真实生活。在现实生活中，人们必须努力做自己的工作，而不是像电视中那样天天泡在咖啡馆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47" name="" descr=""/>
          <p:cNvPicPr/>
          <p:nvPr/>
        </p:nvPicPr>
        <p:blipFill>
          <a:blip r:embed="rId2"/>
          <a:stretch/>
        </p:blipFill>
        <p:spPr>
          <a:xfrm>
            <a:off x="5364000" y="3789360"/>
            <a:ext cx="3183120" cy="24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3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3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80808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80808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忠告十一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善待你所厌恶的人，因为有一天说不定你会为这样的人工作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50" name="" descr=""/>
          <p:cNvPicPr/>
          <p:nvPr/>
        </p:nvPicPr>
        <p:blipFill>
          <a:blip r:embed="rId2"/>
          <a:stretch/>
        </p:blipFill>
        <p:spPr>
          <a:xfrm>
            <a:off x="6012000" y="3284640"/>
            <a:ext cx="264780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比尔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·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盖茨给中国学生的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11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条忠告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324000" y="1746000"/>
            <a:ext cx="85406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忠告一给自己一个梦想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忠告二找准目标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忠告三选择积极的心态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忠告四秉持自己的个性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忠告五添几分冒险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忠告六学会创新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忠告七主动去敲机会的门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忠告八别不把学习当回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忠告九管理好自己的时间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忠告十保持充沛的精力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忠告十一不达目的不罢休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53" name="" descr=""/>
          <p:cNvPicPr/>
          <p:nvPr/>
        </p:nvPicPr>
        <p:blipFill>
          <a:blip r:embed="rId2"/>
          <a:stretch/>
        </p:blipFill>
        <p:spPr>
          <a:xfrm>
            <a:off x="5875200" y="1989000"/>
            <a:ext cx="2421000" cy="34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"/>
          <p:cNvSpPr txBox="1"/>
          <p:nvPr/>
        </p:nvSpPr>
        <p:spPr>
          <a:xfrm>
            <a:off x="900000" y="1125360"/>
            <a:ext cx="5543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88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华文行楷"/>
              </a:rPr>
              <a:t>身边的榜样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sp>
        <p:nvSpPr>
          <p:cNvPr id="1355" name=""/>
          <p:cNvSpPr/>
          <p:nvPr/>
        </p:nvSpPr>
        <p:spPr>
          <a:xfrm>
            <a:off x="1116000" y="3213000"/>
            <a:ext cx="65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80808"/>
                </a:solidFill>
                <a:latin typeface="Arial"/>
              </a:rPr>
              <a:t>发现身边同学的好习惯</a:t>
            </a:r>
            <a:endParaRPr b="0" lang="en-US" sz="4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/>
          </p:nvPr>
        </p:nvSpPr>
        <p:spPr>
          <a:xfrm>
            <a:off x="-360" y="620280"/>
            <a:ext cx="8893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           </a:t>
            </a:r>
            <a:r>
              <a:rPr b="0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不良习惯“现象”：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、上课了，有的同学才手忙脚乱的翻找试卷、练习本……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、考试前想到了一个题，但就是忘记记在哪里了，……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、</a:t>
            </a:r>
            <a:r>
              <a:rPr b="0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考试失败的原因：“看错题了”；“答案涂错了”；“看错要求了” ……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324000" y="4365720"/>
            <a:ext cx="7993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黑体"/>
                <a:ea typeface="黑体"/>
              </a:rPr>
              <a:t>4</a:t>
            </a:r>
            <a:r>
              <a:rPr b="0" lang="zh-CN" sz="3200" spc="-1" strike="noStrike">
                <a:solidFill>
                  <a:srgbClr val="080808"/>
                </a:solidFill>
                <a:latin typeface="黑体"/>
                <a:ea typeface="黑体"/>
              </a:rPr>
              <a:t>、简单题没耐心做，困难题没恒心做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>
                <a:solidFill>
                  <a:srgbClr val="080808"/>
                </a:solidFill>
                <a:latin typeface="黑体"/>
                <a:ea typeface="黑体"/>
              </a:rPr>
              <a:t>简单事不屑做，    困难事胆怯做；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>
                <a:solidFill>
                  <a:srgbClr val="080808"/>
                </a:solidFill>
                <a:latin typeface="黑体"/>
                <a:ea typeface="黑体"/>
              </a:rPr>
              <a:t>小事做不来，        大事做不成。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/>
          </p:nvPr>
        </p:nvSpPr>
        <p:spPr>
          <a:xfrm>
            <a:off x="324000" y="691920"/>
            <a:ext cx="854064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      </a:t>
            </a:r>
            <a:r>
              <a:rPr b="0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不良习惯“现象”：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、早晨上学迟到的理由： “闹钟没响”；“自行车坏了”；“看错时间了” ……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、“两操”迟到，跑操不好，不认真锻炼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、自习课玩耍，说小话，学习不专注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4</a:t>
            </a:r>
            <a:r>
              <a:rPr b="0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、不认真看书复习，每天只是应付作业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5</a:t>
            </a:r>
            <a:r>
              <a:rPr b="0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、随地扔垃圾，不将废弃物放入指定位置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6</a:t>
            </a:r>
            <a:r>
              <a:rPr b="0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、值日、清洁劳动不认真，应付了事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隶书"/>
                <a:ea typeface="隶书"/>
              </a:rPr>
              <a:t>好习惯结好果 坏习惯酿恶果</a:t>
            </a:r>
            <a:br>
              <a:rPr sz="4800"/>
            </a:br>
            <a:r>
              <a:rPr b="0" lang="zh-CN" sz="2400" spc="-1" strike="noStrike">
                <a:solidFill>
                  <a:srgbClr val="0033cc"/>
                </a:solidFill>
                <a:latin typeface="隶书"/>
                <a:ea typeface="隶书"/>
              </a:rPr>
              <a:t>——我们可以养成的好习惯</a:t>
            </a:r>
            <a:endParaRPr b="0" lang="en-US" sz="2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59464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永远信守承诺；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安排好作息时间，上学上课不迟到；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从来不忘记每天复习；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快速处理各种琐碎的事务；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上课积极倾听，认真听讲；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不仅要做计划，而且要马上实施行动；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讲究个人卫生，爱护学习、生活环境；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与人交谈时，保持良好的姿势和微笑；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保证每天的饮食健康；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定期锻炼身体；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多读有益的书；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控制情绪和脾气，用和平方式解决矛盾；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定期给家人或朋友打电话或写信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9.7"/>
                                  </p:iterate>
                                  <p:childTnLst>
                                    <p:set>
                                      <p:cBhvr>
                                        <p:cTn id="16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9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705720"/>
          </a:xfrm>
          <a:prstGeom prst="rect">
            <a:avLst/>
          </a:prstGeom>
          <a:ln w="0">
            <a:noFill/>
          </a:ln>
        </p:spPr>
      </p:pic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如何养成成功的习惯 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66"/>
                </a:solidFill>
                <a:latin typeface="Arial"/>
              </a:rPr>
              <a:t>行为心理学研究表明：</a:t>
            </a:r>
            <a:r>
              <a:rPr b="0" lang="zh-CN" sz="3200" spc="-1" strike="noStrike">
                <a:solidFill>
                  <a:srgbClr val="000066"/>
                </a:solidFill>
                <a:latin typeface="Arial"/>
              </a:rPr>
              <a:t>21</a:t>
            </a:r>
            <a:r>
              <a:rPr b="0" lang="zh-CN" sz="3200" spc="-1" strike="noStrike">
                <a:solidFill>
                  <a:srgbClr val="000066"/>
                </a:solidFill>
                <a:latin typeface="Arial"/>
              </a:rPr>
              <a:t>天以上的重复会形成习惯，</a:t>
            </a:r>
            <a:r>
              <a:rPr b="0" lang="zh-CN" sz="3200" spc="-1" strike="noStrike">
                <a:solidFill>
                  <a:srgbClr val="000066"/>
                </a:solidFill>
                <a:latin typeface="Arial"/>
              </a:rPr>
              <a:t>90</a:t>
            </a:r>
            <a:r>
              <a:rPr b="0" lang="zh-CN" sz="3200" spc="-1" strike="noStrike">
                <a:solidFill>
                  <a:srgbClr val="000066"/>
                </a:solidFill>
                <a:latin typeface="Arial"/>
              </a:rPr>
              <a:t>天的重复，会形成稳定的习惯，即同一个动作，重复</a:t>
            </a:r>
            <a:r>
              <a:rPr b="0" lang="zh-CN" sz="3200" spc="-1" strike="noStrike">
                <a:solidFill>
                  <a:srgbClr val="000066"/>
                </a:solidFill>
                <a:latin typeface="Arial"/>
              </a:rPr>
              <a:t>21</a:t>
            </a:r>
            <a:r>
              <a:rPr b="0" lang="zh-CN" sz="3200" spc="-1" strike="noStrike">
                <a:solidFill>
                  <a:srgbClr val="000066"/>
                </a:solidFill>
                <a:latin typeface="Arial"/>
              </a:rPr>
              <a:t>天就会成为习惯性动作。同理，同一个想法，重复</a:t>
            </a:r>
            <a:r>
              <a:rPr b="0" lang="zh-CN" sz="3200" spc="-1" strike="noStrike">
                <a:solidFill>
                  <a:srgbClr val="000066"/>
                </a:solidFill>
                <a:latin typeface="Arial"/>
              </a:rPr>
              <a:t>21</a:t>
            </a:r>
            <a:r>
              <a:rPr b="0" lang="zh-CN" sz="3200" spc="-1" strike="noStrike">
                <a:solidFill>
                  <a:srgbClr val="000066"/>
                </a:solidFill>
                <a:latin typeface="Arial"/>
              </a:rPr>
              <a:t>天，或重复验证</a:t>
            </a:r>
            <a:r>
              <a:rPr b="0" lang="zh-CN" sz="3200" spc="-1" strike="noStrike">
                <a:solidFill>
                  <a:srgbClr val="000066"/>
                </a:solidFill>
                <a:latin typeface="Arial"/>
              </a:rPr>
              <a:t>21</a:t>
            </a:r>
            <a:r>
              <a:rPr b="0" lang="zh-CN" sz="3200" spc="-1" strike="noStrike">
                <a:solidFill>
                  <a:srgbClr val="000066"/>
                </a:solidFill>
                <a:latin typeface="Arial"/>
              </a:rPr>
              <a:t>次，就会变成习惯性想法。所以，一个观念如果被别人或是自己验证了</a:t>
            </a:r>
            <a:r>
              <a:rPr b="0" lang="zh-CN" sz="3200" spc="-1" strike="noStrike">
                <a:solidFill>
                  <a:srgbClr val="000066"/>
                </a:solidFill>
                <a:latin typeface="Arial"/>
              </a:rPr>
              <a:t>21</a:t>
            </a:r>
            <a:r>
              <a:rPr b="0" lang="zh-CN" sz="3200" spc="-1" strike="noStrike">
                <a:solidFill>
                  <a:srgbClr val="000066"/>
                </a:solidFill>
                <a:latin typeface="Arial"/>
              </a:rPr>
              <a:t>次以上，它一定已成为你的信念，塑造一个良好的习惯，大致有三个阶段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2700360" y="188640"/>
            <a:ext cx="61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c0039"/>
                </a:solidFill>
                <a:latin typeface="幼圆"/>
                <a:ea typeface="幼圆"/>
              </a:rPr>
              <a:t>播种习惯 </a:t>
            </a:r>
            <a:r>
              <a:rPr b="1" lang="zh-CN" sz="4800" spc="-1" strike="noStrike">
                <a:solidFill>
                  <a:srgbClr val="8c0039"/>
                </a:solidFill>
                <a:latin typeface="Arial"/>
              </a:rPr>
              <a:t>·  </a:t>
            </a:r>
            <a:r>
              <a:rPr b="1" lang="zh-CN" sz="4800" spc="-1" strike="noStrike">
                <a:solidFill>
                  <a:srgbClr val="8c0039"/>
                </a:solidFill>
                <a:latin typeface="幼圆"/>
                <a:ea typeface="幼圆"/>
              </a:rPr>
              <a:t>收获成功</a:t>
            </a:r>
            <a:endParaRPr b="0" lang="en-US" sz="4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2050920" y="1267920"/>
            <a:ext cx="684216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细黑"/>
                <a:ea typeface="华文细黑"/>
              </a:rPr>
              <a:t>  </a:t>
            </a:r>
            <a:r>
              <a:rPr b="1" lang="zh-CN" sz="2800" spc="-1" strike="noStrike">
                <a:solidFill>
                  <a:srgbClr val="000066"/>
                </a:solidFill>
                <a:latin typeface="华文细黑"/>
                <a:ea typeface="华文细黑"/>
              </a:rPr>
              <a:t>一步一步的走，漫漫长路有尽头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细黑"/>
                <a:ea typeface="华文细黑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华文细黑"/>
                <a:ea typeface="华文细黑"/>
              </a:rPr>
              <a:t>一针一针的缝，褴褛之衫变天衣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细黑"/>
                <a:ea typeface="华文细黑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华文细黑"/>
                <a:ea typeface="华文细黑"/>
              </a:rPr>
              <a:t>一砖一瓦的垒，铜墙铁壁耸云霄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细黑"/>
                <a:ea typeface="华文细黑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华文细黑"/>
                <a:ea typeface="华文细黑"/>
              </a:rPr>
              <a:t>一片一片的积，万丈雪层深似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One step and then another, and the longest walk is en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One stitch and then another, and the longest rent is men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One brick upon another, and the tallest wall is ma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One flake and then another, and the deepest snow is laid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8" dur="4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3" presetSubtype="16">
                                  <p:stCondLst>
                                    <p:cond delay="398"/>
                                  </p:stCondLst>
                                  <p:childTnLst>
                                    <p:set>
                                      <p:cBhvr>
                                        <p:cTn id="2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3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3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1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1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1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1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0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1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1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1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3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3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13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幼圆"/>
                <a:ea typeface="幼圆"/>
              </a:rPr>
              <a:t>播种习惯 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·  </a:t>
            </a:r>
            <a:r>
              <a:rPr b="1" lang="zh-CN" sz="6000" spc="-1" strike="noStrike">
                <a:solidFill>
                  <a:srgbClr val="ff3300"/>
                </a:solidFill>
                <a:latin typeface="幼圆"/>
                <a:ea typeface="幼圆"/>
              </a:rPr>
              <a:t>收获成功</a:t>
            </a:r>
            <a:endParaRPr b="0" lang="en-US" sz="6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826920" y="2133720"/>
            <a:ext cx="698688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c4c3a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方正舒体"/>
              </a:rPr>
              <a:t>大处着眼，小处着手。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方正舒体"/>
              </a:rPr>
              <a:t>  </a:t>
            </a: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方正舒体"/>
              </a:rPr>
              <a:t>百尺高台，起于垒土。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c4c3a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方正舒体"/>
              </a:rPr>
              <a:t>当你从小处入手，并借助积累的力量，那么改掉习惯也将变得十分容易。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29800">
                                          <p:val>
                                            <p:strVal val="#ppt_h/2"/>
                                          </p:val>
                                        </p:tav>
                                        <p:tav tm="398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59700">
                                          <p:val>
                                            <p:strVal val="#ppt_h"/>
                                          </p:val>
                                        </p:tav>
                                        <p:tav tm="69800">
                                          <p:val>
                                            <p:strVal val="#ppt_h/2"/>
                                          </p:val>
                                        </p:tav>
                                        <p:tav tm="799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19900">
                                          <p:val>
                                            <p:strVal val="#ppt_y-.2"/>
                                          </p:val>
                                        </p:tav>
                                        <p:tav tm="29800">
                                          <p:val>
                                            <p:strVal val="#ppt_y"/>
                                          </p:val>
                                        </p:tav>
                                        <p:tav tm="398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597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800">
                                          <p:val>
                                            <p:strVal val="#ppt_y"/>
                                          </p:val>
                                        </p:tav>
                                        <p:tav tm="799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48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培养好习惯</a:t>
            </a:r>
            <a:r>
              <a:rPr b="1" lang="zh-CN" sz="5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,</a:t>
            </a:r>
            <a:r>
              <a:rPr b="1" lang="zh-CN" sz="5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构建新人生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/>
          </p:nvPr>
        </p:nvSpPr>
        <p:spPr>
          <a:xfrm>
            <a:off x="395280" y="2636640"/>
            <a:ext cx="739152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华文细黑"/>
                <a:ea typeface="华文细黑"/>
              </a:rPr>
              <a:t>你每天早晨的想法将决定你一整天的表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华文细黑"/>
                <a:ea typeface="华文细黑"/>
              </a:rPr>
              <a:t>“</a:t>
            </a:r>
            <a:r>
              <a:rPr b="1" lang="zh-CN" sz="3200" spc="-1" strike="noStrike">
                <a:solidFill>
                  <a:srgbClr val="003300"/>
                </a:solidFill>
                <a:latin typeface="华文细黑"/>
                <a:ea typeface="华文细黑"/>
              </a:rPr>
              <a:t>Your morning thoughts may determine your conduct for the day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华文细黑"/>
                <a:ea typeface="华文细黑"/>
              </a:rPr>
              <a:t>——</a:t>
            </a:r>
            <a:r>
              <a:rPr b="1" lang="zh-CN" sz="3200" spc="-1" strike="noStrike">
                <a:solidFill>
                  <a:srgbClr val="003300"/>
                </a:solidFill>
                <a:latin typeface="华文细黑"/>
                <a:ea typeface="华文细黑"/>
              </a:rPr>
              <a:t>威廉</a:t>
            </a:r>
            <a:r>
              <a:rPr b="1" lang="en-US" sz="3200" spc="-1" strike="noStrike">
                <a:solidFill>
                  <a:srgbClr val="003300"/>
                </a:solidFill>
                <a:latin typeface="华文细黑"/>
                <a:ea typeface="华文细黑"/>
              </a:rPr>
              <a:t>·</a:t>
            </a:r>
            <a:r>
              <a:rPr b="1" lang="zh-CN" sz="3200" spc="-1" strike="noStrike">
                <a:solidFill>
                  <a:srgbClr val="003300"/>
                </a:solidFill>
                <a:latin typeface="华文细黑"/>
                <a:ea typeface="华文细黑"/>
              </a:rPr>
              <a:t>M </a:t>
            </a:r>
            <a:r>
              <a:rPr b="1" lang="en-US" sz="3200" spc="-1" strike="noStrike">
                <a:solidFill>
                  <a:srgbClr val="003300"/>
                </a:solidFill>
                <a:latin typeface="华文细黑"/>
                <a:ea typeface="华文细黑"/>
              </a:rPr>
              <a:t>·</a:t>
            </a:r>
            <a:r>
              <a:rPr b="1" lang="zh-CN" sz="3200" spc="-1" strike="noStrike">
                <a:solidFill>
                  <a:srgbClr val="003300"/>
                </a:solidFill>
                <a:latin typeface="华文细黑"/>
                <a:ea typeface="华文细黑"/>
              </a:rPr>
              <a:t>派克（</a:t>
            </a:r>
            <a:r>
              <a:rPr b="1" lang="zh-CN" sz="3200" spc="-1" strike="noStrike">
                <a:solidFill>
                  <a:srgbClr val="003300"/>
                </a:solidFill>
                <a:latin typeface="华文细黑"/>
                <a:ea typeface="华文细黑"/>
              </a:rPr>
              <a:t>William M. Peck</a:t>
            </a:r>
            <a:r>
              <a:rPr b="1" lang="zh-CN" sz="3200" spc="-1" strike="noStrike">
                <a:solidFill>
                  <a:srgbClr val="003300"/>
                </a:solidFill>
                <a:latin typeface="华文细黑"/>
                <a:ea typeface="华文细黑"/>
              </a:rPr>
              <a:t>）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9.7"/>
                                  </p:iterate>
                                  <p:childTnLst>
                                    <p:set>
                                      <p:cBhvr>
                                        <p:cTn id="37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59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705720"/>
          </a:xfrm>
          <a:prstGeom prst="rect">
            <a:avLst/>
          </a:prstGeom>
          <a:ln w="0">
            <a:noFill/>
          </a:ln>
        </p:spPr>
      </p:pic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68360" y="443700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9933ff"/>
                </a:solidFill>
                <a:latin typeface="Arial"/>
              </a:rPr>
              <a:t>习惯可以改变的，只要不断重复就可以了。</a:t>
            </a:r>
            <a:endParaRPr b="0" lang="en-US" sz="40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611280" y="1052640"/>
            <a:ext cx="8229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有一句话是：思想决定行动，行动决定习惯，习惯决定性格，性格决定命运。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今天这个游戏告诉我们：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80808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80808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/>
          </p:nvPr>
        </p:nvSpPr>
        <p:spPr>
          <a:xfrm>
            <a:off x="900000" y="1196640"/>
            <a:ext cx="73454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如何度过早晨，决定了我们日常行为规律是否能发挥它潜在的威力。它究竟是由好习惯构成，还是被坏习惯充斥，早晨的时光将彻底揭示问题的答案。如果我们希望自己不至于一生碌碌无为，并能够最大限度地发挥潜能，那么，养成有效利用早晨时光的良好习惯将至关重要。</a:t>
            </a:r>
            <a:r>
              <a:rPr b="1" lang="zh-CN" sz="3200" spc="-1" strike="noStrike">
                <a:solidFill>
                  <a:srgbClr val="ffccff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324000" y="980640"/>
            <a:ext cx="748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培养好习惯</a:t>
            </a:r>
            <a:r>
              <a:rPr b="0" lang="zh-CN" sz="5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,</a:t>
            </a:r>
            <a:r>
              <a:rPr b="0" lang="zh-CN" sz="5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构建新人生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395280" y="2636640"/>
            <a:ext cx="739152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每天晚上总结一下自己一天里所做的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Sum up at night what thou has done by day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罗德</a:t>
            </a:r>
            <a:r>
              <a:rPr b="1" lang="en-US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赫尔伯特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(Lord Herber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6" dur="10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1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1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1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一天中的第二个关键时刻出现在晚上。在心中默默整理和评价一下自己一天中完成的事情，并规划好自己第二天应该做的事情，对于第二天早晨是否能够正确做好计划，以及是否能够拥有一个良好的开端至关重要。制定一天的计划，并坚持执行计划，将让你的工作变得效率更高成绩更大。如果，每一天你都无法完成自己希望完成的事情，那么，你应该反躬自问一下，症结或许就在于缺乏计划。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1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1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幼圆"/>
                <a:ea typeface="幼圆"/>
              </a:rPr>
              <a:t>播种习惯 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·  </a:t>
            </a:r>
            <a:r>
              <a:rPr b="1" lang="zh-CN" sz="5400" spc="-1" strike="noStrike">
                <a:solidFill>
                  <a:srgbClr val="ffffff"/>
                </a:solidFill>
                <a:latin typeface="幼圆"/>
                <a:ea typeface="幼圆"/>
              </a:rPr>
              <a:t>收获成功</a:t>
            </a:r>
            <a:br>
              <a:rPr sz="2400"/>
            </a:br>
            <a:r>
              <a:rPr b="0" lang="zh-CN" sz="2400" spc="-1" strike="noStrike">
                <a:solidFill>
                  <a:srgbClr val="ff0066"/>
                </a:solidFill>
                <a:latin typeface="Arial"/>
                <a:ea typeface="隶书"/>
              </a:rPr>
              <a:t> 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——事先制定计划</a:t>
            </a:r>
            <a:r>
              <a:rPr b="0" lang="zh-CN" sz="4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971640" y="2133360"/>
            <a:ext cx="7200720" cy="39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Arial"/>
              </a:rPr>
              <a:t>☆</a:t>
            </a:r>
            <a:r>
              <a:rPr b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在成功实现目标的人群中</a:t>
            </a:r>
            <a:r>
              <a:rPr b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事先制定   计划者高达</a:t>
            </a:r>
            <a:r>
              <a:rPr b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78</a:t>
            </a:r>
            <a:r>
              <a:rPr b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☆</a:t>
            </a:r>
            <a:r>
              <a:rPr b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在改变或培养好习惯的努力过程中，还有一个关键的要素，那便是他人的支持。亲人、朋友，或者同学，都可以成为支持、鼓励、激励你的人选，或成为友善的提醒者——他们完全有可能决定我们究竟是成功地改变生活的某个方面，还是继续糟糕的现状。</a:t>
            </a:r>
            <a:r>
              <a:rPr b="1" lang="zh-CN" sz="3200" spc="-1" strike="noStrike">
                <a:solidFill>
                  <a:srgbClr val="000066"/>
                </a:solidFill>
                <a:latin typeface="幼圆"/>
                <a:ea typeface="幼圆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9.9"/>
                                  </p:iterate>
                                  <p:childTnLst>
                                    <p:set>
                                      <p:cBhvr>
                                        <p:cTn id="45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1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1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1186920" y="1267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800" spc="-1" strike="noStrike">
                <a:solidFill>
                  <a:srgbClr val="ffffff"/>
                </a:solidFill>
                <a:latin typeface="Arial"/>
                <a:ea typeface="华文行楷"/>
              </a:rPr>
              <a:t>习惯无处不在</a:t>
            </a:r>
            <a:br>
              <a:rPr sz="6800"/>
            </a:br>
            <a:r>
              <a:rPr b="1" lang="zh-CN" sz="3400" spc="-1" strike="noStrike">
                <a:solidFill>
                  <a:srgbClr val="ffffff"/>
                </a:solidFill>
                <a:latin typeface="Arial"/>
                <a:ea typeface="华文行楷"/>
              </a:rPr>
              <a:t>                          ——学习习惯</a:t>
            </a: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 type="subTitle"/>
          </p:nvPr>
        </p:nvSpPr>
        <p:spPr>
          <a:xfrm>
            <a:off x="1331640" y="3284640"/>
            <a:ext cx="6838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新魏"/>
              </a:rPr>
              <a:t>学习成绩的好坏，往往取决于是否有良好的学习习惯，特别是思考习惯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0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1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1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1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000" fill="hold"/>
                                        <p:tgtEl>
                                          <p:spTgt spid="1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1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cc"/>
                </a:solidFill>
                <a:latin typeface="Arial"/>
                <a:ea typeface="华文行楷"/>
              </a:rPr>
              <a:t>       </a:t>
            </a:r>
            <a:r>
              <a:rPr b="0" lang="zh-CN" sz="5400" spc="-1" strike="noStrike">
                <a:solidFill>
                  <a:srgbClr val="ff33cc"/>
                </a:solidFill>
                <a:latin typeface="Arial"/>
                <a:ea typeface="华文行楷"/>
              </a:rPr>
              <a:t>学习好习惯</a:t>
            </a:r>
            <a:r>
              <a:rPr b="0" lang="zh-CN" sz="5400" spc="-1" strike="noStrike">
                <a:solidFill>
                  <a:srgbClr val="ff33cc"/>
                </a:solidFill>
                <a:latin typeface="Arial"/>
                <a:ea typeface="华文行楷"/>
              </a:rPr>
              <a:t>(1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幼圆"/>
                <a:ea typeface="幼圆"/>
              </a:rPr>
              <a:t>总是站在系统的高度把握知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幼圆"/>
                <a:ea typeface="幼圆"/>
              </a:rPr>
              <a:t>很多同学在学习中习惯于跟着老师一节一节的走，一章一章的学，不太注意章节与学科整体系统之间的关系，只见树木，不见森林。随着时间推移，所学知识不断增加，就会感到内容繁杂、头绪不清，记忆负担加重。事实上，任何一门学科都有自身的知识结构系统，学习一门学科前首先应了解这一系统，从整体上把握知识，学习每一部分内容都要弄清其在整体系统中的位置，这样做往往使所学知识更容易把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0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8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4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1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0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1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cc"/>
                </a:solidFill>
                <a:latin typeface="Arial"/>
                <a:ea typeface="华文行楷"/>
              </a:rPr>
              <a:t>        </a:t>
            </a:r>
            <a:r>
              <a:rPr b="0" lang="zh-CN" sz="5400" spc="-1" strike="noStrike">
                <a:solidFill>
                  <a:srgbClr val="ff33cc"/>
                </a:solidFill>
                <a:latin typeface="Arial"/>
                <a:ea typeface="华文行楷"/>
              </a:rPr>
              <a:t>学习好习惯</a:t>
            </a:r>
            <a:r>
              <a:rPr b="0" lang="zh-CN" sz="5400" spc="-1" strike="noStrike">
                <a:solidFill>
                  <a:srgbClr val="ff33cc"/>
                </a:solidFill>
                <a:latin typeface="Arial"/>
                <a:ea typeface="华文行楷"/>
              </a:rPr>
              <a:t>(2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细黑"/>
                <a:ea typeface="华文细黑"/>
              </a:rPr>
              <a:t>追根溯源，寻求事物之间的内在联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细黑"/>
                <a:ea typeface="华文细黑"/>
              </a:rPr>
              <a:t>学习最忌死记硬背，特别是理科学习，更重要的是弄清楚道理，所以不论学习什么内容，都要问为什么，这样学到的知识似有源上水，有木之本。即使你所提的问题超出了中学知识范围，甚至老师也回答不出来，但这并不要紧，要紧的是对什么事都要有求知欲，好奇心，这往往是培养我们学习兴趣的重要途径，更重要的是养成这种思考习惯，有利于思维品质的训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0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4" dur="4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3" presetSubtype="16">
                                  <p:stCondLst>
                                    <p:cond delay="398"/>
                                  </p:stCondLst>
                                  <p:childTnLst>
                                    <p:set>
                                      <p:cBhvr>
                                        <p:cTn id="54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0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4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1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8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1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cc"/>
                </a:solidFill>
                <a:latin typeface="Garamond"/>
                <a:ea typeface="华文行楷"/>
              </a:rPr>
              <a:t>        </a:t>
            </a:r>
            <a:r>
              <a:rPr b="0" lang="zh-CN" sz="6000" spc="-1" strike="noStrike">
                <a:solidFill>
                  <a:srgbClr val="ff33cc"/>
                </a:solidFill>
                <a:latin typeface="Garamond"/>
                <a:ea typeface="华文行楷"/>
              </a:rPr>
              <a:t>学习好习惯</a:t>
            </a:r>
            <a:r>
              <a:rPr b="0" lang="zh-CN" sz="6000" spc="-1" strike="noStrike">
                <a:solidFill>
                  <a:srgbClr val="ff33cc"/>
                </a:solidFill>
                <a:latin typeface="Garamond"/>
                <a:ea typeface="华文行楷"/>
              </a:rPr>
              <a:t>(3)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幼圆"/>
                <a:ea typeface="幼圆"/>
              </a:rPr>
              <a:t>发散思维，养成联想的思维习惯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幼圆"/>
                <a:ea typeface="幼圆"/>
              </a:rPr>
              <a:t>在学习中我们应经常注意新旧知识之间、学科之间、所学内容与生活实际等方面的联系，不要孤立的对待知识，养成多角度地去思考问题的习惯，有意识地去训练思维的流畅性、灵活性及独创性，长期下去，必然会促进智力素质的发展。知识的学习主要通过思维活动来实现的，学习的核心就是思维的核心，知识的掌握固然重要，但更重要的是通过知识的学习提高智力素质，智力素质提高了，知识的学习会变得容易。所以上面讲的学习的三个学习习惯实质上是三种思维习惯。学习的重点就是学会如何思考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0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8893080" cy="47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spcBef>
                <a:spcPts val="2500"/>
              </a:spcBef>
              <a:buClr>
                <a:srgbClr val="0075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启示：</a:t>
            </a:r>
            <a:br>
              <a:rPr sz="4000"/>
            </a:b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、有自己的错题本、袖珍笔记本</a:t>
            </a:r>
            <a:br>
              <a:rPr sz="4000"/>
            </a:b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、掌握“通法”，用它解决一类问题</a:t>
            </a:r>
            <a:br>
              <a:rPr sz="4000"/>
            </a:b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3</a:t>
            </a: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、听课抬头、自习埋头、走路昂头</a:t>
            </a:r>
            <a:br>
              <a:rPr sz="4000"/>
            </a:b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4</a:t>
            </a: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、定期整理学习资料，做到有序存放</a:t>
            </a:r>
            <a:br>
              <a:rPr sz="4000"/>
            </a:b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5</a:t>
            </a: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、狠抓基础，不懂就问</a:t>
            </a:r>
            <a:br>
              <a:rPr sz="4000"/>
            </a:b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6</a:t>
            </a: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、注重预习和复习，独立完成练习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5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cc00cc"/>
                </a:solidFill>
                <a:latin typeface="Arial"/>
                <a:ea typeface="华文彩云"/>
              </a:rPr>
              <a:t>讨论与学习</a:t>
            </a:r>
            <a:br>
              <a:rPr sz="7200"/>
            </a:br>
            <a:r>
              <a:rPr b="1" lang="zh-CN" sz="4400" spc="-1" strike="noStrike">
                <a:solidFill>
                  <a:srgbClr val="cc3300"/>
                </a:solidFill>
                <a:latin typeface="黑体"/>
                <a:ea typeface="黑体"/>
              </a:rPr>
              <a:t>——习惯意义非凡 </a:t>
            </a:r>
            <a:br>
              <a:rPr sz="4400"/>
            </a:b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 type="subTitle"/>
          </p:nvPr>
        </p:nvSpPr>
        <p:spPr>
          <a:xfrm>
            <a:off x="684000" y="2997000"/>
            <a:ext cx="7088040" cy="26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幼圆"/>
                <a:ea typeface="幼圆"/>
              </a:rPr>
              <a:t>列举几个自己希望改掉的坏习惯，以及期望养成的好习惯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0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9" dur="4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23" presetSubtype="16">
                                  <p:stCondLst>
                                    <p:cond delay="398"/>
                                  </p:stCondLst>
                                  <p:childTnLst>
                                    <p:set>
                                      <p:cBhvr>
                                        <p:cTn id="61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9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3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1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1763280" y="259920"/>
            <a:ext cx="525636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33ff"/>
                </a:solidFill>
                <a:latin typeface="Arial"/>
                <a:ea typeface="隶书"/>
              </a:rPr>
              <a:t>      </a:t>
            </a:r>
            <a:r>
              <a:rPr b="1" lang="zh-CN" sz="4800" spc="-1" strike="noStrike">
                <a:solidFill>
                  <a:srgbClr val="6767ff"/>
                </a:solidFill>
                <a:latin typeface="Arial"/>
                <a:ea typeface="隶书"/>
              </a:rPr>
              <a:t>坏习惯与命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5627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日本有一家食品公司要招聘一位卫生检测员，一位衣冠楚楚、气度不凡的年轻人自信地走进了总经理办公室，他优雅的谈吐，扎实的专业知识赢得了总经理的好感，没想到就在年轻人转身离开的时候，他下意识抠了一下鼻孔，这个不起眼的小动作并没有逃过总经理的眼睛，结果可想而知，一个没有良好卫生习惯的人怎么能够做卫生检测员呢？当然，年轻人到死也不会知道是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抠鼻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坏习惯毁了他的工作，使到手的饭碗落入了他人之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0" name="" descr=""/>
          <p:cNvPicPr/>
          <p:nvPr/>
        </p:nvPicPr>
        <p:blipFill>
          <a:blip r:embed="rId1"/>
          <a:stretch/>
        </p:blipFill>
        <p:spPr>
          <a:xfrm>
            <a:off x="5940360" y="1844640"/>
            <a:ext cx="3203640" cy="4464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611280" y="191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cc3300"/>
                </a:solidFill>
                <a:latin typeface="Arial"/>
                <a:ea typeface="华文彩云"/>
              </a:rPr>
              <a:t>与大家共勉</a:t>
            </a:r>
            <a:endParaRPr b="0" lang="en-US" sz="66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 type="subTitle"/>
          </p:nvPr>
        </p:nvSpPr>
        <p:spPr>
          <a:xfrm>
            <a:off x="1186920" y="3284640"/>
            <a:ext cx="74883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66"/>
                </a:solidFill>
                <a:latin typeface="Arial"/>
                <a:ea typeface="华文行楷"/>
              </a:rPr>
              <a:t>       </a:t>
            </a:r>
            <a:r>
              <a:rPr b="0" lang="zh-CN" sz="4000" spc="-1" strike="noStrike">
                <a:solidFill>
                  <a:srgbClr val="660066"/>
                </a:solidFill>
                <a:latin typeface="Arial"/>
                <a:ea typeface="华文行楷"/>
              </a:rPr>
              <a:t>即使是痛苦的，我们也要去养成好的习惯；因为如果不这样，坏的习惯会让我们更痛苦。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0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2000" fill="hold"/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2000" fill="hold"/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2000" fill="hold"/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2000" fill="hold"/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2000"/>
                                        <p:tgtEl>
                                          <p:spTgt spid="1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"/>
                                        <p:tgtEl>
                                          <p:spTgt spid="1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685800" y="184428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幼圆"/>
                <a:ea typeface="幼圆"/>
              </a:rPr>
              <a:t>播种习惯 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·  </a:t>
            </a:r>
            <a:r>
              <a:rPr b="1" lang="zh-CN" sz="6000" spc="-1" strike="noStrike">
                <a:solidFill>
                  <a:srgbClr val="ffffff"/>
                </a:solidFill>
                <a:latin typeface="幼圆"/>
                <a:ea typeface="幼圆"/>
              </a:rPr>
              <a:t>收获成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高一 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8 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班   第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五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周班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0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79.9"/>
                                  </p:iterate>
                                  <p:childTnLst>
                                    <p:set>
                                      <p:cBhvr>
                                        <p:cTn id="64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79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日下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，在武汉某高校研究生考点外，一考生被几个保安人员拦下，被告知超过了规定入场时间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），眼睁睁地失去了考试资格。该考生说，为了专心备考，他辞掉了网络公司的工作，牺牲了很多东西，到头来却因为这个缘故被拒之门外。在上海，也有考研生因为进不了考场而痛哭流涕，其中一位不断向老师苦苦哀求：“我为今年考研已经准备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，我很有信心考上，老师给我一次机会吧。”类似的情形其他地方也存在。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泪水，值得同情；规则，应该遵守。 须知，“守时”，既是一种行为规范，也是一种必不可少的品格修养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某高校的几位学者，有一次到国外参加会议期间，按照约定，拟与某一外国组织成员开个座谈会。不料，我们的这几位学者不知什么缘故迟到了几分钟。结果，对方彬彬有礼地退了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 type="title"/>
          </p:nvPr>
        </p:nvSpPr>
        <p:spPr>
          <a:xfrm>
            <a:off x="2340000" y="-360"/>
            <a:ext cx="496872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6767ff"/>
                </a:solidFill>
                <a:latin typeface="Arial"/>
              </a:rPr>
              <a:t>坏习惯与命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7d7da9"/>
                </a:solidFill>
                <a:latin typeface="Arial"/>
                <a:ea typeface="华文新魏"/>
              </a:rPr>
              <a:t>名人名言</a:t>
            </a:r>
            <a:br>
              <a:rPr sz="5400"/>
            </a:br>
            <a:r>
              <a:rPr b="0" lang="zh-CN" sz="2400" spc="-1" strike="noStrike">
                <a:solidFill>
                  <a:srgbClr val="007572"/>
                </a:solidFill>
                <a:latin typeface="Arial"/>
                <a:ea typeface="华文新魏"/>
              </a:rPr>
              <a:t>                         </a:t>
            </a:r>
            <a:r>
              <a:rPr b="0" lang="zh-CN" sz="2800" spc="-1" strike="noStrike">
                <a:solidFill>
                  <a:srgbClr val="007572"/>
                </a:solidFill>
                <a:latin typeface="Arial"/>
                <a:ea typeface="华文新魏"/>
              </a:rPr>
              <a:t>——述说习惯</a:t>
            </a:r>
            <a:endParaRPr b="0" lang="en-US" sz="28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539280" y="2276280"/>
            <a:ext cx="807732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Gulim"/>
                <a:ea typeface="隶书"/>
              </a:rPr>
              <a:t>如果你希望出类拔萃，也希望生活方式与众不同，那么，你必须明白一点——是你的习惯决定着你的未来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Gulim"/>
                <a:ea typeface="隶书"/>
              </a:rPr>
              <a:t>“</a:t>
            </a:r>
            <a:r>
              <a:rPr b="1" lang="zh-CN" sz="2800" spc="-1" strike="noStrike">
                <a:solidFill>
                  <a:srgbClr val="0033cc"/>
                </a:solidFill>
                <a:latin typeface="Gulim"/>
                <a:ea typeface="隶书"/>
              </a:rPr>
              <a:t>If you want to distance yourself from the masses and enjoy a unique lifestyle, understand this——your habits will determine your future.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Gulim"/>
                <a:ea typeface="隶书"/>
              </a:rPr>
              <a:t>——</a:t>
            </a:r>
            <a:r>
              <a:rPr b="1" lang="zh-CN" sz="2800" spc="-1" strike="noStrike">
                <a:solidFill>
                  <a:srgbClr val="0033cc"/>
                </a:solidFill>
                <a:latin typeface="Gulim"/>
                <a:ea typeface="隶书"/>
              </a:rPr>
              <a:t>杰克</a:t>
            </a:r>
            <a:r>
              <a:rPr b="1" lang="en-US" sz="2800" spc="-1" strike="noStrike">
                <a:solidFill>
                  <a:srgbClr val="0033cc"/>
                </a:solidFill>
                <a:latin typeface="Gulim"/>
              </a:rPr>
              <a:t>·</a:t>
            </a:r>
            <a:r>
              <a:rPr b="1" lang="zh-CN" sz="2800" spc="-1" strike="noStrike">
                <a:solidFill>
                  <a:srgbClr val="0033cc"/>
                </a:solidFill>
                <a:latin typeface="Gulim"/>
                <a:ea typeface="隶书"/>
              </a:rPr>
              <a:t>坎菲尔德（</a:t>
            </a:r>
            <a:r>
              <a:rPr b="1" lang="zh-CN" sz="2800" spc="-1" strike="noStrike">
                <a:solidFill>
                  <a:srgbClr val="0033cc"/>
                </a:solidFill>
                <a:latin typeface="Gulim"/>
                <a:ea typeface="隶书"/>
              </a:rPr>
              <a:t>Jack Canfield</a:t>
            </a:r>
            <a:r>
              <a:rPr b="1" lang="zh-CN" sz="2800" spc="-1" strike="noStrike">
                <a:solidFill>
                  <a:srgbClr val="0033cc"/>
                </a:solidFill>
                <a:latin typeface="Gulim"/>
                <a:ea typeface="隶书"/>
              </a:rPr>
              <a:t>），全球畅销书《心灵鸡汤》的作者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1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1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1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/>
          </p:nvPr>
        </p:nvSpPr>
        <p:spPr>
          <a:xfrm>
            <a:off x="611280" y="2205000"/>
            <a:ext cx="5976720" cy="39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幼圆"/>
                <a:ea typeface="幼圆"/>
              </a:rPr>
              <a:t>说说自己 关于“好习惯” “坏习惯” 的故事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16" name=""/>
          <p:cNvSpPr txBox="1"/>
          <p:nvPr/>
        </p:nvSpPr>
        <p:spPr>
          <a:xfrm rot="5400000">
            <a:off x="5495040" y="2218320"/>
            <a:ext cx="3771720" cy="1008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9400ed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交流空间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9400ed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539640" y="2707920"/>
            <a:ext cx="791856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7572"/>
                </a:solidFill>
                <a:latin typeface="Arial"/>
              </a:rPr>
              <a:t>让优秀从好习惯开始</a:t>
            </a:r>
            <a:br>
              <a:rPr sz="6600"/>
            </a:br>
            <a:r>
              <a:rPr b="1" lang="zh-CN" sz="3200" spc="-1" strike="noStrike">
                <a:solidFill>
                  <a:srgbClr val="007572"/>
                </a:solidFill>
                <a:latin typeface="Arial"/>
              </a:rPr>
              <a:t>（聆听</a:t>
            </a:r>
            <a:r>
              <a:rPr b="1" lang="zh-CN" sz="3200" spc="-1" strike="noStrike">
                <a:solidFill>
                  <a:srgbClr val="007572"/>
                </a:solidFill>
                <a:latin typeface="Arial"/>
              </a:rPr>
              <a:t>IT</a:t>
            </a:r>
            <a:r>
              <a:rPr b="1" lang="zh-CN" sz="3200" spc="-1" strike="noStrike">
                <a:solidFill>
                  <a:srgbClr val="007572"/>
                </a:solidFill>
                <a:latin typeface="Arial"/>
              </a:rPr>
              <a:t>巨人的教诲）</a:t>
            </a:r>
            <a:endParaRPr b="0" lang="en-US" sz="32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867280" y="2492280"/>
            <a:ext cx="2660760" cy="3853080"/>
          </a:xfrm>
          <a:prstGeom prst="rect">
            <a:avLst/>
          </a:prstGeom>
          <a:ln w="0">
            <a:noFill/>
          </a:ln>
        </p:spPr>
      </p:pic>
      <p:pic>
        <p:nvPicPr>
          <p:cNvPr id="1319" name="" descr=""/>
          <p:cNvPicPr/>
          <p:nvPr/>
        </p:nvPicPr>
        <p:blipFill>
          <a:blip r:embed="rId4"/>
          <a:stretch/>
        </p:blipFill>
        <p:spPr>
          <a:xfrm>
            <a:off x="539640" y="2492280"/>
            <a:ext cx="5372280" cy="2737080"/>
          </a:xfrm>
          <a:prstGeom prst="rect">
            <a:avLst/>
          </a:prstGeom>
          <a:ln w="0">
            <a:noFill/>
          </a:ln>
        </p:spPr>
      </p:pic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-360" y="1052640"/>
            <a:ext cx="7777080" cy="15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微软总裁比尔．盖茨给青年一代下列</a:t>
            </a: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11</a:t>
            </a: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点忠告： </a:t>
            </a:r>
            <a:br>
              <a:rPr sz="4000"/>
            </a:b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5T02:40:41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4:18:13Z</dcterms:modified>
  <cp:revision>56</cp:revision>
  <dc:subject>主题班会课件(分28大类): http://shop62905894.taobao.com</dc:subject>
  <dc:title>主题班会课件(分28大类): http://shop62905894.taobao.com</dc:title>
</cp:coreProperties>
</file>